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33C-E0A5-4D4E-80C7-8074B07C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D9E-68F0-47EE-B02D-EDC7EE67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B55-C87A-498E-89B9-96818A22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574-D0EC-43C5-9B92-6C2E137F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8A9-B890-4758-965A-8C157C17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C82-E7E7-4DD6-AA55-422C57D8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6A1-D7C9-4A97-A392-4399A8FC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811-A9C4-4D3F-90C2-8C92F7DB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335-6E59-4BAE-87EB-5489D0FB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26C-5FAA-4E50-8E10-CB13435F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46D-0A90-499E-BE42-E2B6FC3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DBB-A60D-464E-BCFD-AA68548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6CB0-9994-44E0-8F4A-DA9A41037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aronshep.com/stories/004.html" TargetMode="External"/><Relationship Id="rId2" Type="http://schemas.openxmlformats.org/officeDocument/2006/relationships/hyperlink" Target="http://www.aaronshep.com/stories/018.html" TargetMode="External"/><Relationship Id="rId3" Type="http://schemas.openxmlformats.org/officeDocument/2006/relationships/hyperlink" Target="http://www.aaronshep.com/stories/018.html" TargetMode="External"/><Relationship Id="rId4" Type="http://schemas.openxmlformats.org/officeDocument/2006/relationships/hyperlink" Target="http://www.aaronshep.com/stories/018.html" TargetMode="External"/><Relationship Id="rId5" Type="http://schemas.openxmlformats.org/officeDocument/2006/relationships/hyperlink" Target="http://www.aaronshep.com/stories/022.html" TargetMode="External"/><Relationship Id="rId6" Type="http://schemas.openxmlformats.org/officeDocument/2006/relationships/hyperlink" Target="http://www.aaronshep.com/stories/023.html" TargetMode="External"/><Relationship Id="rId7" Type="http://schemas.openxmlformats.org/officeDocument/2006/relationships/hyperlink" Target="http://www.aaronshep.com/stories/043.html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ian Folk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lying Languag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267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S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LW work in groups cooperatively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LW rewrite Asian folktales as Reader’s Theater scripts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LW perform the folktale scripts for peers and middle/elementary schools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8076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162560" cy="31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74680"/>
          <a:ext cx="8229600" cy="5921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glish Literatu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cial Studi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eat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rade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erials for p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lktales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19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a world map of the country of the tale’s ori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udents Introduce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ior to performance, students will introduce any unusual or new vocabular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20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fter Performance of Each Folkt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fter the performance of each tale, discuss the lesson learned from 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238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form Folktales to Scri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ngs for Breakfast: A Hindu Leg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Gifts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al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Dad: A Tale of India and 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oo-too-moo and the Giant: A Tale of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he Millionaire Miser: A Buddhist Leg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he Four Puppets: A Tale of Bu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533520" y="5029200"/>
            <a:ext cx="7315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 Writing by Planning and Recording Improvisations Based on Personal Experience and Herita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searching by Finding Information to Support Dramat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502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ading for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8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munication Skills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360" y="1981080"/>
            <a:ext cx="4508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18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Researc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086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cultur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076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22:44:38Z</dcterms:created>
  <dc:creator>Cumberland County Schools</dc:creator>
  <dc:description/>
  <dc:language>en-US</dc:language>
  <cp:lastModifiedBy>Jane Shlensky</cp:lastModifiedBy>
  <dcterms:modified xsi:type="dcterms:W3CDTF">2008-04-19T17:11:49Z</dcterms:modified>
  <cp:revision>3</cp:revision>
  <dc:subject/>
  <dc:title>Asian Folktales</dc:title>
</cp:coreProperties>
</file>